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823-E578-4851-BF25-5E97654D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700-011E-4B65-A85E-1F0DA6B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C1D-0845-4A9D-92EC-464A8FB7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A78-6AF3-431B-8454-447C5451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878-94A5-4D53-A2C5-1C96123F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03F9-CD55-4561-8722-F090A52B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F4B-F212-4BF7-BB0B-B1DC39D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754D-2D64-428E-887A-EDC7BE9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C60-9632-452F-A6D4-93225B11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A80A-E57E-4DCA-BB26-8A8D8ADF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E20E-0060-4CBA-8054-6A9671F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F1B-BDDA-4114-84FA-1118EC9E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8AFE-4039-427D-976E-009CDA7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832-F637-47F2-A284-4F08C39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7B52-F22E-47CD-B1AC-7BAC17AD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7D6B-5E6C-4BAE-8DD1-40EFEF7D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FF3B-E0C9-40D3-8A42-514385FB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3C0-B91B-418D-A286-8B73F88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079-D311-438F-8322-936D2131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C5D-1BAB-464E-9012-C93C8C4B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D5E-8C1E-4EF1-BB50-48E8F5A0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364-9DD0-4DB6-8E8C-8F28C31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CE7-B343-402E-9E67-3AF855F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E8C-54AF-423D-B799-375586B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A37-DF68-4136-9D7E-B6224EF575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DE5A-4C1B-4E0D-B0F6-35F53FE87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33A9-636A-4DAC-B760-E7EDE9C980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782-24B4-45AD-86E6-8EBE7A7D37D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188-F2E1-4635-AFCB-FFEC328A94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: 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4CB-A420-4291-8437-C0DEBCA96E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886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solution: Reduce # cells on a bit-line                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is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Data-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3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276720" cy="21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2F1-3269-404B-9D85-B9E25C56B1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CE0-3250-402A-94FF-4397B2CC07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49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1AC-74C9-4B6E-9029-E579B1859B0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985-C6A7-4B08-9AFB-0A33C9E4A4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943-27F3-4B79-860B-7963537D1B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4-22T04:41:28Z</dcterms:modified>
  <cp:revision>46</cp:revision>
  <dc:subject/>
  <dc:title>Bit-Line Leakage Cancellation:  Design and Test Automation</dc:title>
</cp:coreProperties>
</file>